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8D9B-824F-404C-BEFA-08EC29CF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8A8D-5D11-41F3-9C84-65FED18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2553-D246-4195-BEB6-6856BC19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1EBF-2091-41F3-A20D-78CC98F0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9E0-372C-4214-9D16-4CFED13C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B71C-DAF7-4E7E-89CD-64B0199D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807F-7195-4A5F-A6E5-B3630615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DE08-6515-488C-9AD6-DAF8D6E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D772-7DF2-49B3-93F4-F2E1944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40C-DC38-43CE-8CA9-32D09C98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FB28-8BBF-49CF-881B-9E469C8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C5ED-4460-409C-9455-1C401D6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A528-4CCC-47D9-BF31-F4FAD01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B8C9-A886-4681-9B43-BC39A2C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4DE-8C95-4D81-BF18-8C9B2CA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4BB5-C5C5-4F3D-8F68-E2AC1783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A71-EA04-4E68-A55E-AA6C0C8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DD1F-7937-465C-869D-0358914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1CC1-16A6-4619-873F-010AAF14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5D5B-4FF5-4BB3-8AB3-CDF83DA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7084-2704-468D-9BF6-D89FDAE8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8E79-ACDA-4BB7-90DD-2FCB798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6CED-27EA-49B5-9234-DDC6B37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7A6A-7BAA-497E-8008-EB50FB8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B4F-B53F-4B48-88F5-01BD5460C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9758-6D93-4920-B690-2DECF1DDC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Official_portrait_of_Barack_Obama.jpg" TargetMode="External"/><Relationship Id="rId2" Type="http://schemas.openxmlformats.org/officeDocument/2006/relationships/hyperlink" Target="http://en.wikipedia.org/wiki/File:Einstein_1921_portrait2.jpg" TargetMode="External"/><Relationship Id="rId3" Type="http://schemas.openxmlformats.org/officeDocument/2006/relationships/hyperlink" Target="http://en.wikipedia.org/wiki/Abraham_Lincoln" TargetMode="External"/><Relationship Id="rId4" Type="http://schemas.openxmlformats.org/officeDocument/2006/relationships/hyperlink" Target="http://en.wikipedia.org/wiki/Oprah_Winfre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 good leader looks lik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thers to want to do more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53000" cy="388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86200" y="2819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 is inspiring to us because him and his wife have help fight obesity. They have really encouraged people to get in shape and stay healt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ing the feelings and needs of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1480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h always listens to peoples issues and tries to relate to them. She tries to help people by telling them the right th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knowledge and understanding you need to perform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959200" cy="369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3352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ert Einstein was a very intelligent man, he showed E=mc^2 for math. He represents intelligence for many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ethical in your decisions and treatment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77344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33920" y="34290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 Lincoln was often called Honest Abe. He chased down a lady one time be cause he gave her the wrong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ck Obama, 26 January 2012 at 06:45, January 26, 2012,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en.wikipedia.org/wiki/File:Official_portrait_of_Barack_Obam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ert Einstein 17 January 2012 at 18:43, January 26, 201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en.wikipedia.org/wiki/File:Einstein_1921_portrait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aham Lincoln, 25 January 2012 at 21:22, January  26, 201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en.wikipedia.org/wiki/Abraham_Linc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ah Winfrey, 24 January 2012 at 04:37, January 26, 20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en.wikipedia.org/wiki/Oprah_Winf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2:47:43Z</dcterms:created>
  <dc:creator>Courtney Marr</dc:creator>
  <dc:description/>
  <dc:language>en-US</dc:language>
  <cp:lastModifiedBy>Courtney Marr</cp:lastModifiedBy>
  <dcterms:modified xsi:type="dcterms:W3CDTF">2012-01-26T13:29:40Z</dcterms:modified>
  <cp:revision>2</cp:revision>
  <dc:subject/>
  <dc:title>What a good leader looks like!</dc:title>
</cp:coreProperties>
</file>